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905-9830-4B65-8BDA-542ED20F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A85-DEA1-4299-A8EE-844591A6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FEA-D45E-4B76-A95B-0B47D38C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224-6624-4D70-A2C9-8FB7C0DF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E831-86D5-46B8-AC0A-BD59D36D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F1D-8424-440D-8CD9-D8F0FBC5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2BB-A4A6-4C1A-B81F-967CD3C3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912D-097B-4E0E-8701-68A67AB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818-17CD-415A-82F5-3CDC2CFF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FCC9-337E-4F67-8155-05704C47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F59D-B4B1-43C2-8B6F-7292809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17B-A272-4677-A7A3-F284A3AF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94AF-D1E6-4F4F-AAFD-777E1C5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D6B-4F98-44FA-80F4-D9D9BF6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67D3-AB45-483A-AB5B-7A0A9A41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9FA-DC8B-45E1-BA25-BE7AC7F3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BD7-D84E-42D0-8174-CDE51132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EE34-4A0E-49C1-9B00-D4365149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B852-CB8C-457B-A917-6BE1DF0B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7448-BB6D-400E-8B63-DC967F7A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F757-349C-4D45-A40D-4A2800B6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915D-A043-46CF-8F17-92861DD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05D-B208-4E8F-8A37-394863AE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8F96-D7ED-4B93-AE68-B9C5618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FB1F-F1D1-4556-8CC5-491FE20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F57B-FCB2-446A-BC21-7B0C2EC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2B33-18E7-4B5A-8EEE-8326663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4640-5BBF-4271-B3E1-C7A73CE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1ED5-929E-40A7-A619-02B9736A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8B41-C2A8-48AE-BD2B-520904AE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B01E-4A05-4A86-BFBA-80BAD138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AD75-7265-4E45-A517-BBE7778E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A22E-F500-4BC1-9607-EAD814D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D5E-5E24-4090-B40F-07974792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5191-9535-4628-A591-EEABDFCE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B179-FA9A-489B-A6AF-BACD7A73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80C4-AC1A-4016-924D-14CD1589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5E54-ABB8-44C0-BF04-A9335770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BBF9C-6682-462D-8D12-E9A23FE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ABAF-0DC5-414A-A2CA-1187E56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66CA-5B41-4CB8-A7DD-5980621D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A5C2-7B8A-4986-B549-278EB66C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FF014-E3D3-4177-9F65-89BFAA34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091-AA04-4006-B8DD-3BF2559E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0B3-9149-45F6-8CAD-2B96212A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EEC-DD05-498C-875E-5510EE5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119-6E13-408C-90F3-CA26E26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413-2E59-4331-89CC-9146B83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6A4F9-0681-49AE-B4C7-33F15CA1059E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2CD1B-2BBA-4C99-9FEA-AF1519E1692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A9565-A089-40D7-9225-FE46902AAE12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EB10C-F17B-4BE8-9032-7156AB77E80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6E0ED-5EF4-4CB6-B7C6-15097A0071B8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B0D4A-E25E-4194-A280-0D89397DA2D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97318-1842-4122-951B-068D656BA719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89EE7-0D54-4FCF-94A1-294B27D6A69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  <p:pic>
        <p:nvPicPr>
          <p:cNvPr id="165" name="Title 1" descr=""/>
          <p:cNvPicPr/>
          <p:nvPr/>
        </p:nvPicPr>
        <p:blipFill>
          <a:blip r:embed="rId3"/>
          <a:stretch/>
        </p:blipFill>
        <p:spPr>
          <a:xfrm>
            <a:off x="414360" y="1365120"/>
            <a:ext cx="8242200" cy="1890720"/>
          </a:xfrm>
          <a:prstGeom prst="rect">
            <a:avLst/>
          </a:prstGeom>
          <a:ln w="0">
            <a:noFill/>
          </a:ln>
        </p:spPr>
      </p:pic>
      <p:pic>
        <p:nvPicPr>
          <p:cNvPr id="166" name="Subtitle 2" descr=""/>
          <p:cNvPicPr/>
          <p:nvPr/>
        </p:nvPicPr>
        <p:blipFill>
          <a:blip r:embed="rId4"/>
          <a:stretch/>
        </p:blipFill>
        <p:spPr>
          <a:xfrm>
            <a:off x="1365120" y="3882960"/>
            <a:ext cx="64137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encyclopedia.com/topic/whaling.aspx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wedishwire.com/nordic/sosl-whale-hunting-facts-and-figures-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animal.discovery.com/tv/whale-wars/whaling/why-japanese-hunt-whales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359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) Which country still whale today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) kore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) chin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) phillipin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) jap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) The _______ is used to kill whal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3) What are whales used fo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) Japan says they hunt whales mainly for…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) fu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) scientific resear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) Test out weapon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5) The International Whaling Commision (IWC) was formed in _________  ______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) What is a Factory Ship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7) Whaling is usually done from _______’s or ______’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) The harpoon was invented by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) Richard 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) Bill Ga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) Sven Foy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Questions Continued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9) Whaling is when you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) Ride wha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) Train wha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) Play with wha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) Hunt whal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) Other groups such as Green ______ became very involved in the attempts to stop whal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75960" y="1142640"/>
            <a:ext cx="345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when you hunt whale’s for the oil and meat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il was used to fuel lamps b4 electri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y are also hunted for their baleen which is whale bo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3835440" y="1600200"/>
            <a:ext cx="5003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 The Korean’s have been hunting whales since 5000 B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wegian’s began whaling about 4,000 years ag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ople from the North American coast and the Artic have a long tradition of whal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ling was usually done from canoes or boats using harp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still countries today that continue whaling. Those countries include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Jap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orwa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cel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38098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1932 through 1933 there were attempts made to stop and restrict whale hunt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ternational Whaling Commission (IWC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ed in Washington, D.C., by 17 different nation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lps to limit the number of whales that could be hunt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ther groups such as GreenPeace became very involved in the attempts to stop whal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2286000" y="4572000"/>
            <a:ext cx="42973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Japan says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unting them for scientific research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ge, heal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ating whale meat is tradi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environmentalists say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pan is hunting them for mea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pan could find age, health info through other mean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2781360" y="4114800"/>
            <a:ext cx="1866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ttp://animal.discovery.com/videos/whale-wars-a-life-destroyed.htm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ttp://animal.discovery.com/videos/whale-wars-salvaging-the-ady-gil.htm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ttp://www.youtube.com/watch?v=wP7PZMMpgcw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648320" y="312408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200400" y="1417680"/>
            <a:ext cx="5486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harpoon was invented by a norwegian named Sven Foyn.  It was used because it contains an explosive head which would kill a whale instantl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le hunter’s also used factory ships because it was safe and made it easier to catch larger whal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actory ship - a whaling ship equipped to process whale products at se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ke whales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thern Hemisphere minke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n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yde's wha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i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rm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4572000" y="175248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2:31:18Z</dcterms:created>
  <dc:creator>PA Department of Education Classrooms for the Future</dc:creator>
  <dc:description/>
  <dc:language>en-US</dc:language>
  <cp:lastModifiedBy>SASD</cp:lastModifiedBy>
  <dcterms:modified xsi:type="dcterms:W3CDTF">2011-02-10T14:16:22Z</dcterms:modified>
  <cp:revision>9</cp:revision>
  <dc:subject/>
  <dc:title>Japanese Whaling</dc:title>
</cp:coreProperties>
</file>